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378-0CE4-49FD-BFC4-FE7E0BE6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338F-2618-430E-829B-71879362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C5820-97C1-4348-81D1-0C702DDE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BF4C1-20D9-4F87-990C-820CB490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CE1FD-1DCB-4FD7-AC5B-B0CC66B0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55EC6-99C6-4A79-B5D9-3127B1A8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E7D41-4CB7-4E80-AB53-9810CDBF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DAB7B-D811-4DC0-8847-8F48F70C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3A0A0-B19B-426F-B49F-2CE6EA1D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8C7F5-2D43-4B80-B1AD-27D8F977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52067-D597-407F-B527-352FA8E4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FD311-691B-4728-8870-9D1EFD80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1CB2-3ACA-4528-9842-41FFD86A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2795C-17BF-4D8B-9AA1-9C4A4A03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858AD-C86C-4132-8C2A-16E9777C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3EB70-8626-490A-86FC-C1103B06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6C9CE-371F-4E55-8FE0-6B638B27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BEC46-4B3B-4D0B-96C3-E9620493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DA035-BB78-430C-A0D5-DEDEFDB8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73395-5AE3-491A-98B1-6BFD7476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829E7-3955-4FC2-9D51-0DD9207F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CB324-6C01-4333-9A76-3F116066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97435-FB66-4DA4-916D-8BD09581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524-8F87-4E1C-8E78-E8272C56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869CF-0810-4275-B87F-BF766E43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6967C-604A-430A-B37A-18B58570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C1C05-15C7-4699-B467-B3536EC6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DAA84-F7DF-43BC-9223-B034F072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F5E9E-0DA0-4B91-9FBB-D8B5EA05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15249-3538-4362-B742-0D77E12B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FB23B-4599-422F-AE33-87B4BE12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75877-1479-4757-BF63-223C0BF8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0C23C-8E54-409D-BF5D-4C54DBC9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FB8EF-2C8B-485E-B6B3-8B3D8182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50EC-6DA7-4B7C-AE8F-A3497834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5460B-2A65-43C1-9250-5C2721D0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BC2C7-2E17-4556-A1FE-F4235F3E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969DE-2983-481C-9C29-A4F24C1C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5C425-1DD1-4A76-8A39-517EA0D4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B7B66-D563-43AF-B341-917C9904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A4E87-C0EF-4DAE-B13D-D539E1C99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8E52F-B37D-4077-A1C3-D7BCB365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BF935-4D95-4D8C-8F39-0CD6B984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8A7C3-52D5-47EE-B927-F59B5B70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1D691-5D1D-4B8A-994A-E0D9FA58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0DA5-C40E-42B6-9D41-F3AA8A52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4427D-52EE-4006-8054-07EF73FC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52F60-7EDA-459E-A053-B765FF51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16488-33B2-4799-BFCB-675DD74D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F0D14-CF72-4696-AE4E-EA53F89C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9E4D7-50A1-46D6-8F64-E4F583B0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B5F99-D5FC-4B62-8D12-6077F936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6E70A-5590-41A9-B4DC-048B02A8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90F63F-5EDF-4A0A-B0D9-B37BA30D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3C81D4-16BB-4C3E-84EE-F2BAFAC7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FC2731-D4AA-464E-BA61-0116130A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14A8-E7CB-4B52-B2A5-936031EB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CEA7B-5FEB-43AC-BB8A-4050D184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344FA4-2DD2-487D-901F-D5183633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FA0C4-6CF3-4E91-8E80-DE5925E1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BE83C7-1446-475C-80FD-13E2A2BD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E016C8-A66B-425E-A5FE-901A4459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94EE0-1068-4893-898B-CD2CE090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D1B03-F3DD-4264-8A3E-B9C025EA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12C225-FDFD-40C5-BC4D-1E3DC006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C163A-6EFE-46AC-A2BE-D19EB22E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1F4702-9D26-4529-A75A-9E696773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6E22-5A6A-4186-BD99-D0860CEB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DBBBFC-9BE8-4398-896E-A8AAFF66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B94DCB-57F2-4470-AF17-C007A53D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4E084-1BC9-4FE5-866B-68006F11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AEFEC3-A6E5-4392-9D1B-25E97970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6253CD-8269-41C3-A219-EC602CB7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880D7-78B9-4D04-9310-450E6B96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505860-B26A-46C1-9D03-F8467420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250F6-A85D-4914-9F0B-03A7FCD9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0422E5-B267-4DAE-B31B-3D5EEFA4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A9F3BF-232C-40EB-BF8E-CF5A883D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57A3-B067-4448-93F0-2B61461A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AD363E-0986-4C87-B405-42FC2C76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1D43E1-0041-46A1-991D-E8318FE1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0D97CE-98B1-4661-8B07-0563BAE7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BA236-FE25-48C5-A8FE-80FC2BDA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1B6122-CB25-438B-BCCD-DD4CEFE7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AC3D47-7C03-4B9F-A36C-5A5EF772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124E82-A5A1-430F-A970-F8833E58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730501-0786-4CC7-BEFA-E2E74D08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462EE-41B1-4587-8FD0-55597F2B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A05A35-EEB2-4529-811C-13E90B1C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D0D0-532E-4936-9B51-C52B7BB2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9824F9-6AB1-4C9E-9F1E-2C3BCC38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A02F4-FD01-40A6-8DDB-3FCB1EB9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97DCA3-5F2B-4708-83FA-44A1144E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43AFC5-CE66-4557-8DB2-E0EDBB1A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C563EF-78DA-4ADA-9068-D2963053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00A2CB-DDA7-45E4-9878-ED98D1C3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D80EF9-3A42-486B-8310-1AE6FE89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C2C00C-65C8-464E-AAEE-4600ABD2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373970-C7AC-449D-BC3C-3CFBA366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5FC786-1F01-4DD3-A7B9-43DF5F90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7309-AC15-4EBB-BE8E-72C46130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F6D354-2C5A-4E7C-AF5E-2504F9EB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6A2C95-7C4F-48EC-92FD-3360485A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F36391-8B2E-44D4-AFAC-E10D6134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6548DB-42F0-46C6-86EF-677FB727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AC7C7B-0C22-42CD-B449-27C0ADF5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95CCDA-34B3-4165-BAB6-B56D06C6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A581E8-62A8-4ADF-A556-B41560A3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85DE40-A6CA-48A1-B451-10A615A5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67B47A-1E99-462B-A503-1A2BD20A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4EE6A9-A115-43E3-ACF3-F1EF441C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6AD7-E4C5-47C9-87CD-5A2FDB91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856D-3010-4BA3-AEFF-CA15CF11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2CCE43-A802-42D6-8A11-C89769E8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D088CD-D04D-4FD2-B213-C8A329E4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33A548-B9F7-493E-B10B-718D4EE2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FCE65B-3459-4DA0-ACE0-06B599F4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5B2348-ED0E-4C7A-A131-D62D5516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F8DA5B-8E37-4571-8AB3-FC1D66F3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BAA954-A16A-4310-BEDB-9E663C06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240153-C2E6-448A-91D7-8F07F144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126112-9927-4484-8E84-47E5FF79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1A000F-5021-4EC6-92FE-12B8C6AC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C77D-046C-479A-BFAD-E412EA9F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0B0CB1-1BEC-45DC-AC28-952B0018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3C4F4D-2B64-4F5A-B9EA-21EF6E49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BD3F1C-05D0-4C08-8905-EEAAD2F5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C6F949-6076-46C8-8164-9F199B68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7A82E5-0B6C-41CA-9E3C-47ACF257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23BBC2-24F7-483C-A371-EA73D3C9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0684A4-5DF4-4628-9B1E-74732687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33BB36-59A0-4F49-AEC8-8B1E9E9E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F40D5A-30C8-4076-84F8-5EDCCADD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A80A12-A482-4F2B-B20A-D7AC8B26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71FF-314A-4251-9E75-28BA2392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8F0A4E-EC0A-48D6-9D31-7592DE1C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6F46A4-6ECD-420D-B2BC-492A49D0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EC5978-8339-4F53-8A8A-2F8FE239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A3C4AC-36F5-40E1-B141-7E9C3D39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80DC62-13D7-4B94-9DEC-9C6FACCB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618B3E-357B-46EC-992B-82D6DC7C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E3EC19-B809-4754-8EDA-DC734B4A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E672EF-EC8A-4CF8-8625-933DF09D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DBFBE4-A286-4C4D-99AA-C94D6993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4E30C1-826C-4274-AA13-8F6A0FB7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C1E1-905F-4982-A63E-717EA777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FFD8FC-287F-4A80-A22D-851E6869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64C3BC-8AEC-40F6-96DE-F64B42DB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602B08-33D8-49BC-8EC4-07830AE1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C3D001-898E-4B25-B191-6F73A65E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10A9BF-97E0-4CB3-A2E7-392A4330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610E1D-EF68-49DA-8627-B8C7B571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DFBC41-480A-4C83-AC2E-7A494614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20601C-86DE-4CEB-B683-0E1E80EC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8C9825-1B66-4BE0-9362-AB614D60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786C02-E240-4BD3-985C-1777B840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5322-BBD0-43A0-8510-7CD575E6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D1B946-AE7D-4C8B-95F9-D3080A88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5D0A45-B957-4C41-A7A6-BE5B0686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806940-2764-4EB9-9023-A6F9D127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A99EED-0396-471D-8D2A-3FFB2A3A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28AA70-B77C-41A7-8B6F-05B12AC7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69BB4D-6D8E-41B2-B3EF-5C2F3D10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144C20-CC9F-42F5-8669-1310A33C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2E5306-CBA1-40AD-8F0A-69826557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E64C76-4CA1-4F64-BBE8-5F49A59D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62B5A7-1C0C-4186-86D1-AD506231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55029-A547-41F4-88B4-88305581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6749C2-11A0-4172-9B1B-4D53321A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69C559-5027-4B91-A6E1-33F4850F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B5A2BE-B6E4-4045-A6C1-D07A0BEE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EE2794-A994-4332-85F6-08AC6B86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DCF2FE-C8D5-4889-8416-203896C1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A15730-4417-4C62-B6E1-F42B6FCD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6706F5-A5B8-42BC-AA60-8731FF62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DF6E54-170B-4908-93D6-2ABCDE5D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62F301-3AC5-4F08-ADCE-D988DF5E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AF2A9C-F606-4CDA-BB0E-D052593A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8C9BB-FBC3-4CAE-AA51-F0038129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9CE932-5014-46CE-8C64-9C141750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2CE865-2F01-43E7-A5F8-CE085D46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6A16D2-EC28-4FFB-A7F2-DFA335EF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00D1ED-22CB-46C1-ABD1-F6E3116E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B746B6-D996-4617-AF36-F9198387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D7A5C6-A34C-4D61-9E49-B8D35B26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F18AB9-F93A-416D-93CF-F262615D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D65A20-82DB-4649-92AA-92931F6F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117D3A-E90D-4895-8008-C3562A63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7F1875-A6F2-46C0-A267-6325341F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9544F-D653-4FD5-8C33-B7DD77C0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D7AA9F-7432-4B85-911B-1B464D49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6ABD20-3F06-47D0-931F-D0703EA2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ECB5D1-1AB9-43FA-9053-C3C18602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CF7A87-8494-4871-AC43-8B865040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BD0678-4CBF-48A3-9001-79347B17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AE2088-0ECC-4691-871D-DC29B2B5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E9CB5B-AEEE-4730-A2D0-8F9A127E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DBD66D-214F-43A9-AC62-A2906A61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446AEC-3F98-43D5-A352-EA123F92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F74402-2DDA-4BFC-AF82-3DE1D306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D2CF9-8CC5-4D09-B524-EEA71C67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E24005-0C1E-4A72-A63D-8E8D6221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AE71EB-C75F-4019-A87F-A17BCD73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EFF21B-E6C2-434F-8500-5899CA75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1D2123-36D7-4CDA-AA04-20AC0950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541BD5-6DFB-4A0B-981A-327D6DEE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5AF6EE-0B4F-4F2B-B8E3-461141FB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91D338-7EBD-495F-B6FC-37B751A0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0DBDF1-1601-497B-94FE-DDF7AAA5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1478C0-F984-44E3-B3BB-0FAA8535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F96CEA-A2B2-4F88-B7AC-182EA336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B2577-3FFC-4EBB-BE5E-C6041F9B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42739F-D469-4B27-8D45-9BBDC9EA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4ABE2B-1099-4BFE-ABE5-143F8A36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83AFA1-11C8-4C92-BB21-7CC5737F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4A2FAA-6611-43A2-AFD5-B3A982AC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A40ECB-6E60-4BD8-A1AA-2957F90A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CFA017-FFAC-4A00-A5FD-42B3BA81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92BAED-CD74-46F6-84EA-452857A2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119D34-807E-4B0E-84D8-8754F1FA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A7ADB3-B590-47FD-A664-1B1CC0BD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98B4A4-05FE-44D0-AE86-2B92CFE3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00BF-A117-4255-B9DC-BD0FDFD8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A731E-986D-40E8-A0CC-05DE4611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CAAE26-FB9C-42A4-B755-E36B1E3D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6913CD-EE03-4530-9D96-4618FD4C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08EF1B-C87F-4095-B1A0-75B3D0FF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502926-28E4-4C6B-A231-C5CF061B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1D207E-D371-49CA-B454-D4D7EC9E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D1FC7D-9AE9-41CE-B856-BC74ED6F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7189BE-D1D4-4EE3-AA70-704FD3B2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1D572D-2FF8-49AE-9308-20DE8026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2292B3-E585-463E-930F-087E72C8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BFC7F6-4852-4A26-A081-11D86DA0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90C00-3A42-4ACA-A22D-7D886B50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F415E0-C498-45E5-A284-391662E0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5F7BA3-BCA8-4B3E-B1DC-4B0933B1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4FC26B-12DA-4807-9AED-1FE1B1FF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AAA21D-C349-4B59-B000-BFCAD8F5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7E4324-0705-4191-A0B5-4366AA49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1F7685-E280-4CAA-9BDA-05A5E3A5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EE0A2D-3639-4E76-9910-FDDDED7B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60A26C-7EEA-4E0F-8A5A-8CC0983E1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BA285F-26DA-4E15-A337-59102A2D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F58834-8C16-4EFD-83EB-DF22875F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95A34-91EB-47B6-AD4B-95F4E0DC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3A5ECB-3380-4809-A1CD-E68A4EAC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79156B-A92B-4808-BEDA-37CD183B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E81B66-8209-4F10-99FA-5C0339A5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4F6DA9-5D0E-4E59-8E23-FCEC85E1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8696A1-D10A-4D5F-8651-6859D852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E8980D-87E2-4036-893D-BBFEE35F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B459A8-6DC5-4EE6-9612-817F289D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A85F83-81F6-459C-B193-FD8CAF96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D42358-D9E2-4A1D-814C-571E8987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9AF0C3-A41F-4C73-8B77-CC2D6797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6EF3E-FF36-4A29-82FA-A0139C20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CA34EB-08DA-4FF2-8FAE-90FBC696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4200A6-D79F-4755-A012-B27EF234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72CB90-43E0-429D-839E-936A0D70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6AA9A9-717D-4314-81F8-764CAACC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4C33CD-8B5E-48AF-A9B3-F924E09C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61B9A2-8647-4E63-9BCA-1BD866DD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9C8AEF-A6D7-43D8-B1CE-E1B7D5F6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2A890D-1438-4FF8-A10B-B5D5BF1D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EF4236-D617-45A2-848C-BEBBD3AC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3266AD-C1AB-4922-A52B-7FF9CE42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665B5-AAF4-4BEC-9568-51E5B8A6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2A70D8-4ED8-4B49-96C5-1BB01E4E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FBF0FE-2BB0-43CF-BC70-CE2B834D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0C7630-C182-494B-ACC8-D486DF6D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A58F43-4B53-484E-B978-D0D704AE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D4F0FA-827F-4613-B5C0-6A80B804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699CDF-D5E5-48A0-8646-53B34897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E95823-1E88-40CB-87F3-A464A241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AFD57A-6600-4246-8578-CA2C0896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827CC4-EDA1-41DE-8782-89C56E05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86C33D-B68D-48E4-8356-AF155161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8B931-6F78-4F6D-98A7-B5A49487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ED5E9A-6DEF-4B7E-8911-9A847232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33802D-34E0-4D05-9921-52E22868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BEF522-EF46-4232-AE8D-9B632636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BFAC91-7830-4B9E-AB58-EC66DA0F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B4A498-1D98-459C-878A-34665168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D974C1-FBA4-43E1-8906-8020D7F5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C829F1-6369-4314-AF30-0FDDE20B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A36CA5-9901-4BB6-B2AC-6C289BF3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2F25CE-7E61-489C-B8EA-B3A30B15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4B647F-D2EB-430D-A027-61E1FBF9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545A5-D72B-400F-9FD8-2B2AC392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F36DEA-9311-4835-845A-58B14980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7DABAC-99D9-4055-85C9-8D65BECF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3AC322-9585-4854-A6FA-476AD38F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0DC596-C7D9-4F37-BD71-331ACEAA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27CF28-9995-4FE0-9705-A2511336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103E76-2B7C-4791-9173-5587FE5A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F92A85-EC28-40D7-B6F1-3B54112E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D37BB3-896C-45D6-A704-B323E850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E618EE-435E-460B-9E7E-5798CC2D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4287FD-AC50-4FA0-AC76-25CB8B72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70984-E6B2-4416-963F-7537E58C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576D25-6E16-4661-A5E0-E2ACB741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A197BF-DECB-45CA-9465-3EF4B2AC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3AA0D0-5164-4505-A718-9B17AD08D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62EF3-251A-4201-B25A-8687BAD0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FA58A-39CF-4FD7-8E8E-0FC48B49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2E9-309C-457C-ACBE-F4165BB2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E6CD7-7A53-4B13-9927-6FA4F03A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7DA08-3891-4EBA-A07C-0A97B3A9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514A1-17D0-47B6-92B6-A6EE7FCF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A5BCE-FABC-49FA-A133-952E76DD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E2453-CC6E-4477-AF24-CD6EC98C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2D163-CAA8-4E9C-B22A-BC9027BC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5CF01-C2AC-46A5-8C94-13469AF1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89364-1802-4CB6-8CA9-657386DE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AEC5F-8790-4232-BF7D-95EE9C29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2B027-F3F9-4A14-8D8B-CAF6110F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FA33-B768-435C-A4B7-DD78E14F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AB38D-CC1C-4AEA-9870-82E04640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1BEF2-CBD1-41BD-B288-198F68C5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31390-4A0E-4979-AE81-1E9C362D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47FEC-E706-481C-B897-17F61627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33C91-1542-4B7F-97EA-970CFB4E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E788B-6862-4AA9-BA10-ADF02772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3F3C6-4DF1-4F53-986D-C40591BC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CAA15-E8F0-4E7A-ACB4-242AD0D7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F1688-EB56-4957-B502-985E6AF8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B558D-AC22-4FFD-AFF6-5B1B0334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9C74-E211-4615-BA70-B069F9A4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78902-E613-474E-BF10-5495CF81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D1613-CB03-471F-890D-BCCF198D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10A23-0334-4545-9D6B-CCA7896C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D030F-08CA-42FB-A8C5-6BFB899B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EE59D-5AD4-42BC-9B4D-B76C0F4C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CAD92-ABA4-4149-97A1-F95F66B7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64632-1D23-4559-9BCB-908163B2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CA847-7391-4955-9720-1C772FEA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699CE-6977-4549-8828-EE98D9D9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7514B-134A-4423-B44C-2E5B4960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7EB8-397E-40E0-974D-80D0FA12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4D427-68A6-450C-A99C-1AF670BA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A8FD0-418F-49D3-AC71-E64165AF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14EDC-82F9-4BE4-9FE0-D9B31E10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6F90C-8088-49BB-804E-05049C41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C8D0D-B53E-476A-97CC-A333F82E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D1FC9-3E16-46EF-B266-57EB492D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A0A65-8D05-4E3E-B423-5224B3DD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789BA-3762-4A19-B104-7636602C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E6A88-79D9-4053-8AA9-FA99F8F7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06A39-DB8C-44EE-AF5C-ACF0F573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3B6-4F6B-468F-8F6E-86A1661A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0A930-129C-42E9-9DBB-203D8B17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C2A5A-3B00-4F1F-BC5A-44E3D623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C0961-2E52-4A43-9765-7E23524A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FB067-E928-4C6A-AB6C-AF78CD4D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D74A0-AF39-4653-98FE-41909F8B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8E774-F289-452F-AFED-D2B1FD8D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B90E1-5851-48DF-AC7F-9A5D4B79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8C273-5962-4A27-89F6-776353B7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B97A8-E656-48FA-A4D3-62AD8CC0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DABE4-999A-4D5F-B62A-6DEA1356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7A14-A5EC-4F55-9808-5BD9C783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A4E66-E48A-4C29-90FE-00EC0C75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1FD23-BCAE-44E5-B140-399C312F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58050-AC50-47A9-BA40-60226523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BDD7C-02E5-4AFF-A688-E87B66AB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0B51D-FCD4-422C-9F5C-2244BD28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C5541-1EA5-4859-AE2A-DFA6CDF6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47312-7FA3-4BA3-BF1B-356CC906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321CA-E331-4BC7-80AA-BFFB20DA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13F30-5485-40F8-B80D-D0C43679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81C44-5E46-4100-BCD5-6171C5DB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FF38-D660-4AAE-8F17-3E0E64D062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48D7-A073-4430-8820-85D52C9F96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0870-41CD-4051-9FDA-59CFCC57D1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EA94-525C-4133-BBFC-F28D9521A1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F084-A279-41D8-82F9-6DA17236D84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DF87-2E7B-440F-9597-FCD59884B9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A3BA-1274-4969-8598-88FF82B314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F80D-05CA-4C80-9E00-101DAE1B6E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66B2-2CE5-43CB-A1F7-9FB0E63C78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BD05-7742-4AFE-AF37-4BBBA96843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19AA-E12A-44EA-B745-A47D679CB6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77F1-730C-42A9-965F-001825A44F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E57D-5572-4B73-9554-0B24A3C119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B03D-C46D-4348-8937-78A4A98BFE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BB9E-5E09-4340-B7E6-630C62658E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898F-264C-4E9B-A2B2-CEE85D0E9A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CA83-D214-45E2-9945-CFBD17CC87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3A9D-AE02-43F2-B3FA-EB5B09E285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5238-D066-40B2-A112-6E37720A0F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2741-72CC-4369-893B-513304AFB4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D8AF-574E-4F7F-9C20-BC81D07621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DFAB-8269-438D-ACA0-F8F11C309F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FB84-70AC-4672-B1BD-F54385C4B3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E951-AF6D-4B9D-A1DC-68FE7F1170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4BF3-02C3-4184-8805-4FF0F78445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C691-A623-4BE6-B52D-EB90D89F2A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2083-84A5-4C4D-ADC2-615B375FCC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DBE1-BFB4-4C60-880A-E64A8D458F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A616-0A65-466A-A4B6-4ABF1778BD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B52D-6680-45F1-B8EA-6375B9ACC4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264A-5587-4FB2-9B7D-FFD1202DDB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2AE4-D7B4-4B82-A9F4-AD9E6B5F73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FCBC-35A4-44C8-9D58-C8201D4263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359D-0C18-4A49-B3B3-934EB45506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C71C-EB2E-4782-833B-47CE3DAA88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0A96-A0F2-4B28-8C04-5B87BC584C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D31B-65F5-4E47-823F-D8304F5B0D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B3EC-6890-4793-916D-64C54040D1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1B5E-EAF2-4FCE-A3E5-97B4A01A59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547D-C3A6-405F-BFE4-B788F72A11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1805-6A57-4EF2-8C0C-40CB4CE6AD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3D34-DE9B-4980-91BA-A97D2D2D8B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EEFD-A39E-4C6F-B59F-92326F371C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AB93-C3A5-4441-B3AE-ED26AB44D4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A5CE-3C82-438E-96BE-BED2F543B9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E872-B5C6-4122-B1FD-BC8108F588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36B0-5B7F-4C1C-8F21-E919F31F19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1677-8387-4549-8D75-3013F8D38D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B1EC-FB0A-4F61-8DED-EDFB6216F4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5328-B2D2-4E04-8759-9C655A1509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37814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116737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48680" cy="5810400"/>
          </a:xfrm>
          <a:prstGeom prst="rect">
            <a:avLst/>
          </a:prstGeom>
          <a:ln w="0">
            <a:noFill/>
          </a:ln>
        </p:spPr>
      </p:pic>
      <p:sp>
        <p:nvSpPr>
          <p:cNvPr id="1470" name="矩形 116738"/>
          <p:cNvSpPr/>
          <p:nvPr/>
        </p:nvSpPr>
        <p:spPr>
          <a:xfrm>
            <a:off x="7812000" y="1916280"/>
            <a:ext cx="40176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115713" descr=""/>
          <p:cNvPicPr/>
          <p:nvPr/>
        </p:nvPicPr>
        <p:blipFill>
          <a:blip r:embed="rId1"/>
          <a:stretch/>
        </p:blipFill>
        <p:spPr>
          <a:xfrm>
            <a:off x="457200" y="1704960"/>
            <a:ext cx="8229600" cy="3448080"/>
          </a:xfrm>
          <a:prstGeom prst="rect">
            <a:avLst/>
          </a:prstGeom>
          <a:ln w="0">
            <a:noFill/>
          </a:ln>
        </p:spPr>
      </p:pic>
      <p:sp>
        <p:nvSpPr>
          <p:cNvPr id="1472" name="矩形 115714"/>
          <p:cNvSpPr/>
          <p:nvPr/>
        </p:nvSpPr>
        <p:spPr>
          <a:xfrm>
            <a:off x="7872480" y="2230560"/>
            <a:ext cx="40140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114689" descr=""/>
          <p:cNvPicPr/>
          <p:nvPr/>
        </p:nvPicPr>
        <p:blipFill>
          <a:blip r:embed="rId1"/>
          <a:stretch/>
        </p:blipFill>
        <p:spPr>
          <a:xfrm>
            <a:off x="533520" y="1457280"/>
            <a:ext cx="8076960" cy="3943440"/>
          </a:xfrm>
          <a:prstGeom prst="rect">
            <a:avLst/>
          </a:prstGeom>
          <a:ln w="0">
            <a:noFill/>
          </a:ln>
        </p:spPr>
      </p:pic>
      <p:sp>
        <p:nvSpPr>
          <p:cNvPr id="1474" name="矩形 114690"/>
          <p:cNvSpPr/>
          <p:nvPr/>
        </p:nvSpPr>
        <p:spPr>
          <a:xfrm>
            <a:off x="4859280" y="1989000"/>
            <a:ext cx="374508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4691"/>
          <p:cNvSpPr/>
          <p:nvPr/>
        </p:nvSpPr>
        <p:spPr>
          <a:xfrm>
            <a:off x="1692360" y="2492280"/>
            <a:ext cx="6912000" cy="42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4692"/>
          <p:cNvSpPr/>
          <p:nvPr/>
        </p:nvSpPr>
        <p:spPr>
          <a:xfrm>
            <a:off x="1725480" y="3043080"/>
            <a:ext cx="133380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4693"/>
          <p:cNvSpPr/>
          <p:nvPr/>
        </p:nvSpPr>
        <p:spPr>
          <a:xfrm>
            <a:off x="3639960" y="4033800"/>
            <a:ext cx="309276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4694"/>
          <p:cNvSpPr/>
          <p:nvPr/>
        </p:nvSpPr>
        <p:spPr>
          <a:xfrm>
            <a:off x="7059600" y="4249800"/>
            <a:ext cx="154476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4695"/>
          <p:cNvSpPr/>
          <p:nvPr/>
        </p:nvSpPr>
        <p:spPr>
          <a:xfrm>
            <a:off x="1560600" y="4732200"/>
            <a:ext cx="4595760" cy="5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11366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191440" cy="1724040"/>
          </a:xfrm>
          <a:prstGeom prst="rect">
            <a:avLst/>
          </a:prstGeom>
          <a:ln w="0">
            <a:noFill/>
          </a:ln>
        </p:spPr>
      </p:pic>
      <p:pic>
        <p:nvPicPr>
          <p:cNvPr id="1481" name="图片 113666" descr=""/>
          <p:cNvPicPr/>
          <p:nvPr/>
        </p:nvPicPr>
        <p:blipFill>
          <a:blip r:embed="rId2"/>
          <a:stretch/>
        </p:blipFill>
        <p:spPr>
          <a:xfrm>
            <a:off x="539640" y="3500280"/>
            <a:ext cx="8039160" cy="1209960"/>
          </a:xfrm>
          <a:prstGeom prst="rect">
            <a:avLst/>
          </a:prstGeom>
          <a:ln w="0">
            <a:noFill/>
          </a:ln>
        </p:spPr>
      </p:pic>
      <p:sp>
        <p:nvSpPr>
          <p:cNvPr id="1482" name="矩形 113667"/>
          <p:cNvSpPr/>
          <p:nvPr/>
        </p:nvSpPr>
        <p:spPr>
          <a:xfrm>
            <a:off x="1827360" y="2319480"/>
            <a:ext cx="3105000" cy="61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3668"/>
          <p:cNvSpPr/>
          <p:nvPr/>
        </p:nvSpPr>
        <p:spPr>
          <a:xfrm>
            <a:off x="1992240" y="3970440"/>
            <a:ext cx="3587760" cy="61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图片 112641" descr=""/>
          <p:cNvPicPr/>
          <p:nvPr/>
        </p:nvPicPr>
        <p:blipFill>
          <a:blip r:embed="rId1"/>
          <a:stretch/>
        </p:blipFill>
        <p:spPr>
          <a:xfrm>
            <a:off x="461880" y="966960"/>
            <a:ext cx="8220240" cy="4924080"/>
          </a:xfrm>
          <a:prstGeom prst="rect">
            <a:avLst/>
          </a:prstGeom>
          <a:ln w="0">
            <a:noFill/>
          </a:ln>
        </p:spPr>
      </p:pic>
      <p:sp>
        <p:nvSpPr>
          <p:cNvPr id="1485" name="矩形 112642"/>
          <p:cNvSpPr/>
          <p:nvPr/>
        </p:nvSpPr>
        <p:spPr>
          <a:xfrm>
            <a:off x="3186000" y="2522520"/>
            <a:ext cx="52236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2643"/>
          <p:cNvSpPr/>
          <p:nvPr/>
        </p:nvSpPr>
        <p:spPr>
          <a:xfrm>
            <a:off x="2017800" y="3538440"/>
            <a:ext cx="3058920" cy="55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2644"/>
          <p:cNvSpPr/>
          <p:nvPr/>
        </p:nvSpPr>
        <p:spPr>
          <a:xfrm>
            <a:off x="1484280" y="5240160"/>
            <a:ext cx="3059280" cy="55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11617" descr=""/>
          <p:cNvPicPr/>
          <p:nvPr/>
        </p:nvPicPr>
        <p:blipFill>
          <a:blip r:embed="rId1"/>
          <a:stretch/>
        </p:blipFill>
        <p:spPr>
          <a:xfrm>
            <a:off x="590400" y="1238400"/>
            <a:ext cx="7963200" cy="438120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11618"/>
          <p:cNvSpPr/>
          <p:nvPr/>
        </p:nvSpPr>
        <p:spPr>
          <a:xfrm>
            <a:off x="5307120" y="1735200"/>
            <a:ext cx="286524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11619"/>
          <p:cNvSpPr/>
          <p:nvPr/>
        </p:nvSpPr>
        <p:spPr>
          <a:xfrm>
            <a:off x="2347920" y="2433600"/>
            <a:ext cx="2865600" cy="61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11620"/>
          <p:cNvSpPr/>
          <p:nvPr/>
        </p:nvSpPr>
        <p:spPr>
          <a:xfrm>
            <a:off x="1763640" y="4084560"/>
            <a:ext cx="162108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1621"/>
          <p:cNvSpPr/>
          <p:nvPr/>
        </p:nvSpPr>
        <p:spPr>
          <a:xfrm>
            <a:off x="5472000" y="4059360"/>
            <a:ext cx="212436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1622"/>
          <p:cNvSpPr/>
          <p:nvPr/>
        </p:nvSpPr>
        <p:spPr>
          <a:xfrm>
            <a:off x="8062920" y="4719600"/>
            <a:ext cx="40176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1623"/>
          <p:cNvSpPr/>
          <p:nvPr/>
        </p:nvSpPr>
        <p:spPr>
          <a:xfrm>
            <a:off x="1547640" y="5113440"/>
            <a:ext cx="504036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图片 11059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848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图片 109569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1914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7" name="图片 108545" descr=""/>
          <p:cNvPicPr/>
          <p:nvPr/>
        </p:nvPicPr>
        <p:blipFill>
          <a:blip r:embed="rId1"/>
          <a:stretch/>
        </p:blipFill>
        <p:spPr>
          <a:xfrm>
            <a:off x="619200" y="1795320"/>
            <a:ext cx="7905600" cy="3267360"/>
          </a:xfrm>
          <a:prstGeom prst="rect">
            <a:avLst/>
          </a:prstGeom>
          <a:ln w="0">
            <a:noFill/>
          </a:ln>
        </p:spPr>
      </p:pic>
      <p:sp>
        <p:nvSpPr>
          <p:cNvPr id="1498" name="矩形 108546"/>
          <p:cNvSpPr/>
          <p:nvPr/>
        </p:nvSpPr>
        <p:spPr>
          <a:xfrm>
            <a:off x="2881440" y="2332080"/>
            <a:ext cx="55782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08547"/>
          <p:cNvSpPr/>
          <p:nvPr/>
        </p:nvSpPr>
        <p:spPr>
          <a:xfrm>
            <a:off x="1382760" y="2852640"/>
            <a:ext cx="297324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08548"/>
          <p:cNvSpPr/>
          <p:nvPr/>
        </p:nvSpPr>
        <p:spPr>
          <a:xfrm>
            <a:off x="7567560" y="3284640"/>
            <a:ext cx="89208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08549"/>
          <p:cNvSpPr/>
          <p:nvPr/>
        </p:nvSpPr>
        <p:spPr>
          <a:xfrm>
            <a:off x="1452600" y="3817800"/>
            <a:ext cx="2327400" cy="4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08551"/>
          <p:cNvSpPr/>
          <p:nvPr/>
        </p:nvSpPr>
        <p:spPr>
          <a:xfrm>
            <a:off x="7643880" y="3843360"/>
            <a:ext cx="89208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08552"/>
          <p:cNvSpPr/>
          <p:nvPr/>
        </p:nvSpPr>
        <p:spPr>
          <a:xfrm>
            <a:off x="1476360" y="4437000"/>
            <a:ext cx="3460680" cy="534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图片 107521" descr=""/>
          <p:cNvPicPr/>
          <p:nvPr/>
        </p:nvPicPr>
        <p:blipFill>
          <a:blip r:embed="rId1"/>
          <a:stretch/>
        </p:blipFill>
        <p:spPr>
          <a:xfrm>
            <a:off x="628560" y="2057400"/>
            <a:ext cx="7886880" cy="2743200"/>
          </a:xfrm>
          <a:prstGeom prst="rect">
            <a:avLst/>
          </a:prstGeom>
          <a:ln w="0">
            <a:noFill/>
          </a:ln>
        </p:spPr>
      </p:pic>
      <p:sp>
        <p:nvSpPr>
          <p:cNvPr id="1505" name="矩形 107522"/>
          <p:cNvSpPr/>
          <p:nvPr/>
        </p:nvSpPr>
        <p:spPr>
          <a:xfrm>
            <a:off x="6132600" y="1951200"/>
            <a:ext cx="240012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07523"/>
          <p:cNvSpPr/>
          <p:nvPr/>
        </p:nvSpPr>
        <p:spPr>
          <a:xfrm>
            <a:off x="2602080" y="5202360"/>
            <a:ext cx="132228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07524"/>
          <p:cNvSpPr/>
          <p:nvPr/>
        </p:nvSpPr>
        <p:spPr>
          <a:xfrm>
            <a:off x="1255680" y="2459160"/>
            <a:ext cx="132228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07525"/>
          <p:cNvSpPr/>
          <p:nvPr/>
        </p:nvSpPr>
        <p:spPr>
          <a:xfrm>
            <a:off x="7199280" y="2484360"/>
            <a:ext cx="132228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07526"/>
          <p:cNvSpPr/>
          <p:nvPr/>
        </p:nvSpPr>
        <p:spPr>
          <a:xfrm>
            <a:off x="1433520" y="2992320"/>
            <a:ext cx="457848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07527"/>
          <p:cNvSpPr/>
          <p:nvPr/>
        </p:nvSpPr>
        <p:spPr>
          <a:xfrm>
            <a:off x="7224840" y="3500280"/>
            <a:ext cx="1322280" cy="4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107528"/>
          <p:cNvSpPr/>
          <p:nvPr/>
        </p:nvSpPr>
        <p:spPr>
          <a:xfrm>
            <a:off x="1382760" y="4008600"/>
            <a:ext cx="2036880" cy="43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328680" y="1138320"/>
            <a:ext cx="8486640" cy="458136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2340000" y="2205000"/>
            <a:ext cx="431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1"/>
          <p:cNvSpPr/>
          <p:nvPr/>
        </p:nvSpPr>
        <p:spPr>
          <a:xfrm>
            <a:off x="3432240" y="2205000"/>
            <a:ext cx="431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2"/>
          <p:cNvSpPr/>
          <p:nvPr/>
        </p:nvSpPr>
        <p:spPr>
          <a:xfrm>
            <a:off x="3343320" y="2560680"/>
            <a:ext cx="581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3"/>
          <p:cNvSpPr/>
          <p:nvPr/>
        </p:nvSpPr>
        <p:spPr>
          <a:xfrm>
            <a:off x="1501920" y="2903400"/>
            <a:ext cx="5810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4"/>
          <p:cNvSpPr/>
          <p:nvPr/>
        </p:nvSpPr>
        <p:spPr>
          <a:xfrm>
            <a:off x="6084720" y="2905200"/>
            <a:ext cx="719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5"/>
          <p:cNvSpPr/>
          <p:nvPr/>
        </p:nvSpPr>
        <p:spPr>
          <a:xfrm>
            <a:off x="3597120" y="3741840"/>
            <a:ext cx="581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6"/>
          <p:cNvSpPr/>
          <p:nvPr/>
        </p:nvSpPr>
        <p:spPr>
          <a:xfrm>
            <a:off x="6188040" y="3602160"/>
            <a:ext cx="2200320" cy="43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7"/>
          <p:cNvSpPr/>
          <p:nvPr/>
        </p:nvSpPr>
        <p:spPr>
          <a:xfrm>
            <a:off x="6937200" y="4148280"/>
            <a:ext cx="18115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4938"/>
          <p:cNvSpPr/>
          <p:nvPr/>
        </p:nvSpPr>
        <p:spPr>
          <a:xfrm>
            <a:off x="971640" y="4543560"/>
            <a:ext cx="1138320" cy="43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4939"/>
          <p:cNvSpPr/>
          <p:nvPr/>
        </p:nvSpPr>
        <p:spPr>
          <a:xfrm>
            <a:off x="2568600" y="4541760"/>
            <a:ext cx="3155760" cy="43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4940"/>
          <p:cNvSpPr/>
          <p:nvPr/>
        </p:nvSpPr>
        <p:spPr>
          <a:xfrm>
            <a:off x="4778280" y="5062680"/>
            <a:ext cx="1162080" cy="2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4941"/>
          <p:cNvSpPr/>
          <p:nvPr/>
        </p:nvSpPr>
        <p:spPr>
          <a:xfrm>
            <a:off x="8131320" y="5037120"/>
            <a:ext cx="581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123905" descr=""/>
          <p:cNvPicPr/>
          <p:nvPr/>
        </p:nvPicPr>
        <p:blipFill>
          <a:blip r:embed="rId1"/>
          <a:stretch/>
        </p:blipFill>
        <p:spPr>
          <a:xfrm>
            <a:off x="347760" y="1757520"/>
            <a:ext cx="8448480" cy="3342960"/>
          </a:xfrm>
          <a:prstGeom prst="rect">
            <a:avLst/>
          </a:prstGeom>
          <a:ln w="0">
            <a:noFill/>
          </a:ln>
        </p:spPr>
      </p:pic>
      <p:sp>
        <p:nvSpPr>
          <p:cNvPr id="1447" name="矩形 123906"/>
          <p:cNvSpPr/>
          <p:nvPr/>
        </p:nvSpPr>
        <p:spPr>
          <a:xfrm>
            <a:off x="8101080" y="3068640"/>
            <a:ext cx="40140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22881" descr=""/>
          <p:cNvPicPr/>
          <p:nvPr/>
        </p:nvPicPr>
        <p:blipFill>
          <a:blip r:embed="rId1"/>
          <a:stretch/>
        </p:blipFill>
        <p:spPr>
          <a:xfrm>
            <a:off x="299880" y="2052720"/>
            <a:ext cx="8544240" cy="275256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22882"/>
          <p:cNvSpPr/>
          <p:nvPr/>
        </p:nvSpPr>
        <p:spPr>
          <a:xfrm>
            <a:off x="8101080" y="2349360"/>
            <a:ext cx="40140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21857" descr=""/>
          <p:cNvPicPr/>
          <p:nvPr/>
        </p:nvPicPr>
        <p:blipFill>
          <a:blip r:embed="rId1"/>
          <a:stretch/>
        </p:blipFill>
        <p:spPr>
          <a:xfrm>
            <a:off x="318960" y="2543040"/>
            <a:ext cx="8506080" cy="177192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21858"/>
          <p:cNvSpPr/>
          <p:nvPr/>
        </p:nvSpPr>
        <p:spPr>
          <a:xfrm>
            <a:off x="8101080" y="3284640"/>
            <a:ext cx="40140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20833" descr=""/>
          <p:cNvPicPr/>
          <p:nvPr/>
        </p:nvPicPr>
        <p:blipFill>
          <a:blip r:embed="rId1"/>
          <a:stretch/>
        </p:blipFill>
        <p:spPr>
          <a:xfrm>
            <a:off x="343080" y="1671480"/>
            <a:ext cx="8458200" cy="351504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20834"/>
          <p:cNvSpPr/>
          <p:nvPr/>
        </p:nvSpPr>
        <p:spPr>
          <a:xfrm>
            <a:off x="2360520" y="3398760"/>
            <a:ext cx="40176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0835"/>
          <p:cNvSpPr/>
          <p:nvPr/>
        </p:nvSpPr>
        <p:spPr>
          <a:xfrm>
            <a:off x="3059280" y="3403440"/>
            <a:ext cx="43308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20836"/>
          <p:cNvSpPr/>
          <p:nvPr/>
        </p:nvSpPr>
        <p:spPr>
          <a:xfrm>
            <a:off x="3719520" y="3398760"/>
            <a:ext cx="40176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20837"/>
          <p:cNvSpPr/>
          <p:nvPr/>
        </p:nvSpPr>
        <p:spPr>
          <a:xfrm>
            <a:off x="4367160" y="3398760"/>
            <a:ext cx="40176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120838"/>
          <p:cNvSpPr/>
          <p:nvPr/>
        </p:nvSpPr>
        <p:spPr>
          <a:xfrm>
            <a:off x="6919920" y="3475080"/>
            <a:ext cx="16844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20839"/>
          <p:cNvSpPr/>
          <p:nvPr/>
        </p:nvSpPr>
        <p:spPr>
          <a:xfrm>
            <a:off x="7148520" y="3868560"/>
            <a:ext cx="116856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20840"/>
          <p:cNvSpPr/>
          <p:nvPr/>
        </p:nvSpPr>
        <p:spPr>
          <a:xfrm>
            <a:off x="4875120" y="4376880"/>
            <a:ext cx="40176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20841"/>
          <p:cNvSpPr/>
          <p:nvPr/>
        </p:nvSpPr>
        <p:spPr>
          <a:xfrm>
            <a:off x="5827680" y="4402080"/>
            <a:ext cx="40176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20842"/>
          <p:cNvSpPr/>
          <p:nvPr/>
        </p:nvSpPr>
        <p:spPr>
          <a:xfrm>
            <a:off x="6361200" y="4389480"/>
            <a:ext cx="40140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20843"/>
          <p:cNvSpPr/>
          <p:nvPr/>
        </p:nvSpPr>
        <p:spPr>
          <a:xfrm>
            <a:off x="6948360" y="4600440"/>
            <a:ext cx="158436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19810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334360" cy="264816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19811"/>
          <p:cNvSpPr/>
          <p:nvPr/>
        </p:nvSpPr>
        <p:spPr>
          <a:xfrm>
            <a:off x="7758000" y="3170160"/>
            <a:ext cx="40176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8785" descr=""/>
          <p:cNvPicPr/>
          <p:nvPr/>
        </p:nvPicPr>
        <p:blipFill>
          <a:blip r:embed="rId1"/>
          <a:stretch/>
        </p:blipFill>
        <p:spPr>
          <a:xfrm>
            <a:off x="500040" y="1933560"/>
            <a:ext cx="8143920" cy="299088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8786"/>
          <p:cNvSpPr/>
          <p:nvPr/>
        </p:nvSpPr>
        <p:spPr>
          <a:xfrm>
            <a:off x="7885080" y="2997360"/>
            <a:ext cx="40176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7761" descr=""/>
          <p:cNvPicPr/>
          <p:nvPr/>
        </p:nvPicPr>
        <p:blipFill>
          <a:blip r:embed="rId1"/>
          <a:stretch/>
        </p:blipFill>
        <p:spPr>
          <a:xfrm>
            <a:off x="447840" y="1924200"/>
            <a:ext cx="8248320" cy="3009600"/>
          </a:xfrm>
          <a:prstGeom prst="rect">
            <a:avLst/>
          </a:prstGeom>
          <a:ln w="0">
            <a:noFill/>
          </a:ln>
        </p:spPr>
      </p:pic>
      <p:sp>
        <p:nvSpPr>
          <p:cNvPr id="1468" name="矩形 117762"/>
          <p:cNvSpPr/>
          <p:nvPr/>
        </p:nvSpPr>
        <p:spPr>
          <a:xfrm>
            <a:off x="7956720" y="2421000"/>
            <a:ext cx="40140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7:31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